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9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50400" y="738360"/>
            <a:ext cx="4907160" cy="368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0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1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F509-1227-4152-9E8C-4C566D9F7C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BC8C-9540-4E7F-8DBC-41DDFE817A3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EB6D-D489-4074-8C0C-2009C01BE5E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76A-82FC-4EAB-96D5-4BCF5807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3BD-A6AA-455A-A5C5-578F617D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FC14-4EFB-447C-B0BE-1C3D4862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A44-B7F3-4835-AEBD-E286F5BB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AE551-6A57-4E1E-BF9C-4DAF7B80AE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E436F-EADA-4306-8DD1-B7FB6C05EB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46B78-C927-4353-A6C5-D97399DA05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5B39E-063B-46D8-BC21-25F7666FA8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4A5D1-AADC-4388-A362-2A83DE5A35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9B9FA-DD8B-45BF-A47B-BFADF30162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73C5A-C8CD-43BD-9683-76BC89E011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446-172B-4475-8354-24B89DBE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BE1DF-B1DB-4A39-8D59-12BE301DCF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D309C-AAFC-4109-86FF-F342F95FD0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8BA96-F310-4705-9985-80D4051E6F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6632F-7E71-41F1-9E2D-79928B55F7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9A4FD-5F20-452E-8373-712CCB1022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A19A2-162A-4D31-8452-D29956D902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52ED3-7D12-459F-A0EB-B15A833D68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3D634-3934-4806-BE11-C0EA212F8C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ACDB1-25EB-4FBD-979C-6FBF7DDDA8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C881C-9185-4370-900A-6431F523B6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66C-D3C8-4E4B-A5F4-EC385638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1B112-EF51-4F22-BEEB-20FD5660C2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34B25-18F0-40E1-87BA-7F84F7C82E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B5F01-F706-4888-9E72-9605B9D4DD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25BCB-1173-4268-8C14-B962094957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707E1-8104-4261-8E6E-7D255BF853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5DB50-C333-4B1C-AA0B-75C21991C6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159B2-D1A3-460A-A6E2-A14986B51D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6BF745-9410-44FA-8AA2-2A451F7B16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DA55BC-E093-4D64-99C3-2AFE74B1B7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7E359D-1302-4182-975D-DB7CEFFDB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1D4-C078-4503-94BE-455BAD07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7459B2-0390-4D68-8434-8C5CEBFBA2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7A10FD-9557-4A34-A606-AEC8405ADF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B2C527-576F-4504-96D8-79A24BAE40D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C0F7EA-7385-4969-91E1-3B28F30CC3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258FDA-0D7C-430B-99B4-1C07E0A4A2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993322-07EB-4047-9842-B99768074D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1D1CF8-1EA6-41FB-BB15-13BE45ED9A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93223F-4493-48AC-A387-C2A42D86AA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F35E96-2A76-49F2-BBE2-4FE6E1FBB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86E-E0F8-4355-A74F-79D1191A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14C3-5CBB-404C-A055-5839D01A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5AF-A9E2-4C80-BDFF-0042CFF1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2AF3-66A4-4010-AEB3-92382090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BBB-5DBD-467A-9DF8-CE1D02BA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62E2-33D8-435F-A324-0606DC0F03D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EDBF-5FC6-4664-BCBA-B10C57B1D0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C12A-9916-4934-9C10-9DD4235566FB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BC17-159D-4277-9E08-3D326E2793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7944-C166-41E5-9CCF-CF6EA6F3DCEE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3889-D15F-427C-8DF7-0943D6A047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“back-route(s)”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gregate regist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ocal apps share user- or node-owned prefix(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”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“propagat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E50A-ED50-44BC-8336-7DE9D0BD44F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华文隶书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9962-A821-4F9F-822B-19AFB8A27098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7"/>
          <p:cNvSpPr/>
          <p:nvPr/>
        </p:nvSpPr>
        <p:spPr>
          <a:xfrm>
            <a:off x="3747600" y="1066680"/>
            <a:ext cx="2937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3"/>
          <p:cNvSpPr/>
          <p:nvPr/>
        </p:nvSpPr>
        <p:spPr>
          <a:xfrm>
            <a:off x="6781680" y="129060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肘形连接符 82"/>
          <p:cNvCxnSpPr/>
          <p:nvPr/>
        </p:nvCxnSpPr>
        <p:spPr>
          <a:xfrm flipH="1" rot="10800000">
            <a:off x="5410080" y="1599480"/>
            <a:ext cx="1395720" cy="1220040"/>
          </a:xfrm>
          <a:prstGeom prst="bentConnector3">
            <a:avLst>
              <a:gd name="adj1" fmla="val -59210"/>
            </a:avLst>
          </a:prstGeom>
          <a:ln w="28440">
            <a:solidFill>
              <a:srgbClr val="008000"/>
            </a:solidFill>
            <a:prstDash val="sysDot"/>
            <a:round/>
            <a:tailEnd len="med" type="arrow" w="med"/>
          </a:ln>
        </p:spPr>
      </p:cxnSp>
      <p:sp>
        <p:nvSpPr>
          <p:cNvPr id="178" name="矩形 63"/>
          <p:cNvSpPr/>
          <p:nvPr/>
        </p:nvSpPr>
        <p:spPr>
          <a:xfrm>
            <a:off x="3581280" y="258624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2"/>
          <p:cNvCxnSpPr/>
          <p:nvPr/>
        </p:nvCxnSpPr>
        <p:spPr>
          <a:xfrm flipV="1">
            <a:off x="4647960" y="4038120"/>
            <a:ext cx="1080" cy="14486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0" name="Hexagon 3"/>
          <p:cNvSpPr/>
          <p:nvPr/>
        </p:nvSpPr>
        <p:spPr>
          <a:xfrm>
            <a:off x="1143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Hexagon 46"/>
          <p:cNvSpPr/>
          <p:nvPr/>
        </p:nvSpPr>
        <p:spPr>
          <a:xfrm>
            <a:off x="419112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Hexagon 47"/>
          <p:cNvSpPr/>
          <p:nvPr/>
        </p:nvSpPr>
        <p:spPr>
          <a:xfrm>
            <a:off x="6858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8"/>
          <p:cNvCxnSpPr>
            <a:stCxn id="182" idx="0"/>
          </p:cNvCxnSpPr>
          <p:nvPr/>
        </p:nvCxnSpPr>
        <p:spPr>
          <a:xfrm flipH="1" flipV="1">
            <a:off x="5333760" y="4038120"/>
            <a:ext cx="16768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184" name="Straight Arrow Connector 50"/>
          <p:cNvCxnSpPr>
            <a:stCxn id="180" idx="0"/>
          </p:cNvCxnSpPr>
          <p:nvPr/>
        </p:nvCxnSpPr>
        <p:spPr>
          <a:xfrm flipV="1">
            <a:off x="1839600" y="4038120"/>
            <a:ext cx="18946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5" name="Rectangle 7"/>
          <p:cNvSpPr/>
          <p:nvPr/>
        </p:nvSpPr>
        <p:spPr>
          <a:xfrm>
            <a:off x="63504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5"/>
          <p:cNvSpPr/>
          <p:nvPr/>
        </p:nvSpPr>
        <p:spPr>
          <a:xfrm>
            <a:off x="3429000" y="4800600"/>
            <a:ext cx="220968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6"/>
          <p:cNvSpPr/>
          <p:nvPr/>
        </p:nvSpPr>
        <p:spPr>
          <a:xfrm>
            <a:off x="2743200" y="3668760"/>
            <a:ext cx="3238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6"/>
          <p:cNvSpPr/>
          <p:nvPr/>
        </p:nvSpPr>
        <p:spPr>
          <a:xfrm>
            <a:off x="586728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1"/>
          <p:cNvSpPr/>
          <p:nvPr/>
        </p:nvSpPr>
        <p:spPr>
          <a:xfrm>
            <a:off x="2819520" y="1868400"/>
            <a:ext cx="3581280" cy="6426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B391-9ECF-4B65-843D-8F24290D83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Brace 4"/>
          <p:cNvSpPr/>
          <p:nvPr/>
        </p:nvSpPr>
        <p:spPr>
          <a:xfrm>
            <a:off x="5562720" y="4800600"/>
            <a:ext cx="533160" cy="990720"/>
          </a:xfrm>
          <a:custGeom>
            <a:avLst/>
            <a:gdLst>
              <a:gd name="textAreaLeft" fmla="*/ 0 w 533160"/>
              <a:gd name="textAreaRight" fmla="*/ 192600 w 533160"/>
              <a:gd name="textAreaTop" fmla="*/ 13680 h 990720"/>
              <a:gd name="textAreaBottom" fmla="*/ 977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5"/>
                  <a:pt x="10800" y="969"/>
                </a:cubicBezTo>
                <a:lnTo>
                  <a:pt x="10800" y="9831"/>
                </a:lnTo>
                <a:cubicBezTo>
                  <a:pt x="10800" y="10316"/>
                  <a:pt x="16200" y="10800"/>
                  <a:pt x="21600" y="10800"/>
                </a:cubicBezTo>
                <a:cubicBezTo>
                  <a:pt x="16200" y="10800"/>
                  <a:pt x="10800" y="11285"/>
                  <a:pt x="10800" y="11769"/>
                </a:cubicBezTo>
                <a:lnTo>
                  <a:pt x="10800" y="20631"/>
                </a:lnTo>
                <a:cubicBezTo>
                  <a:pt x="10800" y="2111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fix registration for prefix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keys, namespaces) &lt;- enumerate keys NRD ow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key defines “namespace” it u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 define the following convention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amespace:  /&lt;..1..&gt;/&lt;..2..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&lt;KEY&gt;, &lt;PREFIX&gt;) &lt;- longest prefix match on key namespaces for &lt;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f nothing found, 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&lt;PREIFX&gt; already regist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&lt;EXTRA CHECK (seen next slide)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localhop registration for &lt;PREFIX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gn with &lt;KEY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edule registration refresh for &lt;PREFIX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RIB entry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the registered prefix set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4E81-13F5-44C5-85B7-5E8E22907100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check during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me namespace can be covered by multiple key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alex/home/macbook/app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app1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always use keys for the shortest namespac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register multiple back route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hould we unregister longer namespace when shorter is being register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FB4F-DC39-44FC-9A85-1715CA9DD01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华文隶书"/>
              </a:rPr>
              <a:t>Local NRD (unregister longer when necessar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C5EE-D363-4ABA-88B2-C384A1DD0FDE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直线箭头连接符 8"/>
          <p:cNvCxnSpPr/>
          <p:nvPr/>
        </p:nvCxnSpPr>
        <p:spPr>
          <a:xfrm>
            <a:off x="4343040" y="1295280"/>
            <a:ext cx="1080" cy="6105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205" name="矩形 9"/>
          <p:cNvSpPr/>
          <p:nvPr/>
        </p:nvSpPr>
        <p:spPr>
          <a:xfrm>
            <a:off x="4386600" y="13716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 (reg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2819520" y="1905120"/>
            <a:ext cx="31240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prefix to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0"/>
          <p:cNvSpPr/>
          <p:nvPr/>
        </p:nvSpPr>
        <p:spPr>
          <a:xfrm>
            <a:off x="2819520" y="1981080"/>
            <a:ext cx="3047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菱形 11"/>
          <p:cNvSpPr/>
          <p:nvPr/>
        </p:nvSpPr>
        <p:spPr>
          <a:xfrm>
            <a:off x="2819520" y="2819520"/>
            <a:ext cx="3124080" cy="609480"/>
          </a:xfrm>
          <a:prstGeom prst="diamond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2"/>
          <p:cNvSpPr/>
          <p:nvPr/>
        </p:nvSpPr>
        <p:spPr>
          <a:xfrm>
            <a:off x="3389400" y="2906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3"/>
          <p:cNvSpPr/>
          <p:nvPr/>
        </p:nvSpPr>
        <p:spPr>
          <a:xfrm>
            <a:off x="4532760" y="2373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线箭头连接符 14"/>
          <p:cNvCxnSpPr>
            <a:stCxn id="206" idx="2"/>
            <a:endCxn id="208" idx="0"/>
          </p:cNvCxnSpPr>
          <p:nvPr/>
        </p:nvCxnSpPr>
        <p:spPr>
          <a:xfrm>
            <a:off x="4381200" y="2362320"/>
            <a:ext cx="1080" cy="45792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212" name="肘形连接符 17"/>
          <p:cNvCxnSpPr>
            <a:stCxn id="208" idx="1"/>
            <a:endCxn id="213" idx="1"/>
          </p:cNvCxnSpPr>
          <p:nvPr/>
        </p:nvCxnSpPr>
        <p:spPr>
          <a:xfrm flipV="1" rot="10800000">
            <a:off x="2818800" y="3123000"/>
            <a:ext cx="13320" cy="2591640"/>
          </a:xfrm>
          <a:prstGeom prst="bentConnector3">
            <a:avLst>
              <a:gd name="adj1" fmla="val 11700000"/>
            </a:avLst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grpSp>
        <p:nvGrpSpPr>
          <p:cNvPr id="214" name="组 25"/>
          <p:cNvGrpSpPr/>
          <p:nvPr/>
        </p:nvGrpSpPr>
        <p:grpSpPr>
          <a:xfrm>
            <a:off x="2819520" y="4495680"/>
            <a:ext cx="3124080" cy="457200"/>
            <a:chOff x="2819520" y="4495680"/>
            <a:chExt cx="3124080" cy="457200"/>
          </a:xfrm>
        </p:grpSpPr>
        <p:sp>
          <p:nvSpPr>
            <p:cNvPr id="215" name="矩形 26"/>
            <p:cNvSpPr/>
            <p:nvPr/>
          </p:nvSpPr>
          <p:spPr>
            <a:xfrm>
              <a:off x="2819520" y="449568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27"/>
            <p:cNvSpPr/>
            <p:nvPr/>
          </p:nvSpPr>
          <p:spPr>
            <a:xfrm>
              <a:off x="2819520" y="457164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 28"/>
          <p:cNvGrpSpPr/>
          <p:nvPr/>
        </p:nvGrpSpPr>
        <p:grpSpPr>
          <a:xfrm>
            <a:off x="5486400" y="3657600"/>
            <a:ext cx="3581280" cy="456840"/>
            <a:chOff x="5486400" y="3657600"/>
            <a:chExt cx="3581280" cy="456840"/>
          </a:xfrm>
        </p:grpSpPr>
        <p:sp>
          <p:nvSpPr>
            <p:cNvPr id="218" name="矩形 29"/>
            <p:cNvSpPr/>
            <p:nvPr/>
          </p:nvSpPr>
          <p:spPr>
            <a:xfrm>
              <a:off x="5486400" y="3657600"/>
              <a:ext cx="358128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30"/>
            <p:cNvSpPr/>
            <p:nvPr/>
          </p:nvSpPr>
          <p:spPr>
            <a:xfrm>
              <a:off x="5486400" y="3733560"/>
              <a:ext cx="34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ong_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31"/>
          <p:cNvSpPr/>
          <p:nvPr/>
        </p:nvSpPr>
        <p:spPr>
          <a:xfrm>
            <a:off x="16200" y="267804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horter one (or the same)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32"/>
          <p:cNvSpPr/>
          <p:nvPr/>
        </p:nvSpPr>
        <p:spPr>
          <a:xfrm>
            <a:off x="5517000" y="26668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nger o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ng_pref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肘形连接符 33"/>
          <p:cNvCxnSpPr>
            <a:stCxn id="208" idx="3"/>
            <a:endCxn id="218" idx="0"/>
          </p:cNvCxnSpPr>
          <p:nvPr/>
        </p:nvCxnSpPr>
        <p:spPr>
          <a:xfrm>
            <a:off x="5943600" y="3124080"/>
            <a:ext cx="1334160" cy="53424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3" name="肘形连接符 36"/>
          <p:cNvCxnSpPr>
            <a:stCxn id="218" idx="2"/>
            <a:endCxn id="215" idx="3"/>
          </p:cNvCxnSpPr>
          <p:nvPr/>
        </p:nvCxnSpPr>
        <p:spPr>
          <a:xfrm rot="5400000">
            <a:off x="6305040" y="3752640"/>
            <a:ext cx="610200" cy="133416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4" name="直线箭头连接符 42"/>
          <p:cNvCxnSpPr>
            <a:stCxn id="208" idx="2"/>
            <a:endCxn id="215" idx="0"/>
          </p:cNvCxnSpPr>
          <p:nvPr/>
        </p:nvCxnSpPr>
        <p:spPr>
          <a:xfrm>
            <a:off x="4381200" y="3428640"/>
            <a:ext cx="1080" cy="106740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grpSp>
        <p:nvGrpSpPr>
          <p:cNvPr id="225" name="组 45"/>
          <p:cNvGrpSpPr/>
          <p:nvPr/>
        </p:nvGrpSpPr>
        <p:grpSpPr>
          <a:xfrm>
            <a:off x="2819520" y="5486400"/>
            <a:ext cx="3124080" cy="457200"/>
            <a:chOff x="2819520" y="5486400"/>
            <a:chExt cx="3124080" cy="457200"/>
          </a:xfrm>
        </p:grpSpPr>
        <p:sp>
          <p:nvSpPr>
            <p:cNvPr id="213" name="矩形 46"/>
            <p:cNvSpPr/>
            <p:nvPr/>
          </p:nvSpPr>
          <p:spPr>
            <a:xfrm>
              <a:off x="2819520" y="548640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47"/>
            <p:cNvSpPr/>
            <p:nvPr/>
          </p:nvSpPr>
          <p:spPr>
            <a:xfrm>
              <a:off x="2819520" y="556236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" name="直线箭头连接符 50"/>
          <p:cNvCxnSpPr>
            <a:stCxn id="215" idx="2"/>
            <a:endCxn id="213" idx="0"/>
          </p:cNvCxnSpPr>
          <p:nvPr/>
        </p:nvCxnSpPr>
        <p:spPr>
          <a:xfrm>
            <a:off x="4381200" y="4952880"/>
            <a:ext cx="1080" cy="5342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D011-83FB-47A1-802B-C9304BD7624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9761-B994-4BF4-A67F-54640694642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3:02:57Z</dcterms:created>
  <dc:creator>罗腊咏</dc:creator>
  <dc:description/>
  <dc:language>en-US</dc:language>
  <cp:lastModifiedBy>Alex Afanasyev</cp:lastModifiedBy>
  <dcterms:modified xsi:type="dcterms:W3CDTF">2014-10-17T20:03:15Z</dcterms:modified>
  <cp:revision>1586</cp:revision>
  <dc:subject/>
  <dc:title> Towards TCAM-based scalable virtual routers</dc:title>
</cp:coreProperties>
</file>